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png" ContentType="image/png"/>
  <Override PartName="/ppt/media/image4.gif" ContentType="image/gif"/>
  <Override PartName="/ppt/media/image30.wmf" ContentType="image/x-wmf"/>
  <Override PartName="/ppt/media/image34.gif" ContentType="image/gif"/>
  <Override PartName="/ppt/media/image26.png" ContentType="image/png"/>
  <Override PartName="/ppt/media/image3.gif" ContentType="image/gif"/>
  <Override PartName="/ppt/media/image33.gif" ContentType="image/gif"/>
  <Override PartName="/ppt/media/image25.wmf" ContentType="image/x-wmf"/>
  <Override PartName="/ppt/media/image24.wmf" ContentType="image/x-wmf"/>
  <Override PartName="/ppt/media/image23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wmf" ContentType="image/x-wmf"/>
  <Override PartName="/ppt/media/image12.gif" ContentType="image/gif"/>
  <Override PartName="/ppt/media/image16.png" ContentType="image/png"/>
  <Override PartName="/ppt/media/image13.gif" ContentType="image/gif"/>
  <Override PartName="/ppt/media/image7.gif" ContentType="image/gif"/>
  <Override PartName="/ppt/media/image37.gif" ContentType="image/gif"/>
  <Override PartName="/ppt/media/image8.gif" ContentType="image/gif"/>
  <Override PartName="/ppt/media/image38.gif" ContentType="image/gif"/>
  <Override PartName="/ppt/media/image9.gif" ContentType="image/gif"/>
  <Override PartName="/ppt/media/image39.png" ContentType="image/png"/>
  <Override PartName="/ppt/media/image40.jpeg" ContentType="image/jpeg"/>
  <Override PartName="/ppt/media/image41.jpeg" ContentType="image/jpeg"/>
  <Override PartName="/ppt/media/image11.gif" ContentType="image/gif"/>
  <Override PartName="/ppt/media/image36.gif" ContentType="image/gif"/>
  <Override PartName="/ppt/media/image6.gif" ContentType="image/gif"/>
  <Override PartName="/ppt/media/image32.wmf" ContentType="image/x-wmf"/>
  <Override PartName="/ppt/media/image10.gif" ContentType="image/gif"/>
  <Override PartName="/ppt/media/image35.gif" ContentType="image/gif"/>
  <Override PartName="/ppt/media/image31.wmf" ContentType="image/x-wmf"/>
  <Override PartName="/ppt/media/image5.gif" ContentType="image/gif"/>
  <Override PartName="/ppt/media/image1.jpeg" ContentType="image/jpeg"/>
  <Override PartName="/ppt/media/image2.gif" ContentType="image/gif"/>
  <Override PartName="/ppt/media/image14.gif" ContentType="image/gif"/>
  <Override PartName="/ppt/media/image15.gif" ContentType="image/gif"/>
  <Override PartName="/ppt/media/image17.gif" ContentType="image/gi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979200" cy="68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65308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6040-E4E4-4A43-A996-428BC7B4D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F262-C827-4CDA-A2F3-E275504E635A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EBC2-6EB7-406F-9BA9-174624584762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F01-5723-4CEA-A88C-04F25BC8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723-C06D-4FF2-9483-14DBBCA3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1AD-3930-4D56-AC67-F01A4E16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70F-D31A-4B8D-82F8-0EF31D1A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8B64-CF29-427D-9FB8-0F6E1BEC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3A79-AA3D-4FDA-90D3-33EF1BCC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1BCE-01D3-40FE-8F98-E2D45E3F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76EC-B1D7-469E-85DA-35C18EEC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99E1-B79E-41A4-930C-500BAA30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6223-2173-43C8-8B00-0C247544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25FC-93AD-435A-A9C8-ADF4AB44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50B-8CB8-47CB-9262-224B820D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9A2C-BAEC-4115-B580-98036AB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FC01-1A48-4B95-AAC3-6DEC626A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FFD8-A841-44BB-A492-B5715C18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40FE-CF91-4F18-B733-365A60F6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30C9-D2F3-4057-91BD-B2A3C24D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D5B-09C4-42F4-82D1-2451E945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343-B5AD-4B35-B883-539A3A8F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12D-EC7C-40CC-840A-A9AF1325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ACA-8EB3-4F77-8AD2-D03F6A4B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EFB-D238-4265-B072-BBCD0AC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6C0-CC85-476B-8740-81C82318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722-C835-4858-AC3A-5230247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E1F5-0198-41F0-AEAF-B99C9DD495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2AC6-D605-4A8A-8CC0-2B60C0636018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60"/>
                </a:solidFill>
                <a:latin typeface="Comic Sans MS"/>
              </a:rPr>
              <a:t>Предупреждение нарушений в поведении ребенка</a:t>
            </a: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17" name="Picture 4" descr="deva213"/>
          <p:cNvPicPr/>
          <p:nvPr/>
        </p:nvPicPr>
        <p:blipFill>
          <a:blip r:embed="rId1"/>
          <a:stretch/>
        </p:blipFill>
        <p:spPr>
          <a:xfrm>
            <a:off x="541008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eva214"/>
          <p:cNvPicPr/>
          <p:nvPr/>
        </p:nvPicPr>
        <p:blipFill>
          <a:blip r:embed="rId2"/>
          <a:stretch/>
        </p:blipFill>
        <p:spPr>
          <a:xfrm>
            <a:off x="13716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eva216"/>
          <p:cNvPicPr/>
          <p:nvPr/>
        </p:nvPicPr>
        <p:blipFill>
          <a:blip r:embed="rId3"/>
          <a:stretch/>
        </p:blipFill>
        <p:spPr>
          <a:xfrm>
            <a:off x="34290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eva215"/>
          <p:cNvPicPr/>
          <p:nvPr/>
        </p:nvPicPr>
        <p:blipFill>
          <a:blip r:embed="rId4"/>
          <a:stretch/>
        </p:blipFill>
        <p:spPr>
          <a:xfrm>
            <a:off x="7391520" y="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6">
            <a:hlinkClick r:id="rId5"/>
          </p:cNvPr>
          <p:cNvSpPr/>
          <p:nvPr/>
        </p:nvSpPr>
        <p:spPr>
          <a:xfrm flipV="1">
            <a:off x="7162920" y="6858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мстительного повед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тражение роста насилия в обществе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Распространение через средства массовой информации стиля «силового» решения конфликт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бида, боль, опустошение в дополнение к гневу, негодованию и страху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медленно ответить силой как равному (подавить),уйти из ситуации (убежать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3" name="Picture 4" descr="pingv04"/>
          <p:cNvPicPr/>
          <p:nvPr/>
        </p:nvPicPr>
        <p:blipFill>
          <a:blip r:embed="rId1"/>
          <a:stretch/>
        </p:blipFill>
        <p:spPr>
          <a:xfrm>
            <a:off x="6705720" y="228600"/>
            <a:ext cx="2076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mic Sans MS"/>
              </a:rPr>
              <a:t>Есть ли хорошее в плохом?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.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нуждаются в общении с родителями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2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демонстрируют лидерские способности: умение независимо мыслить, способность сопротивляться авторитетам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3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демонстрируют высокую жизнеспособность, умение защитится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4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хотят и могут добиться успеха.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6" name="Picture 10" descr="line92"/>
          <p:cNvPicPr/>
          <p:nvPr/>
        </p:nvPicPr>
        <p:blipFill>
          <a:blip r:embed="rId1"/>
          <a:stretch/>
        </p:blipFill>
        <p:spPr>
          <a:xfrm>
            <a:off x="4114800" y="762120"/>
            <a:ext cx="4838760" cy="333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sw54"/>
          <p:cNvPicPr/>
          <p:nvPr/>
        </p:nvPicPr>
        <p:blipFill>
          <a:blip r:embed="rId2"/>
          <a:stretch/>
        </p:blipFill>
        <p:spPr>
          <a:xfrm>
            <a:off x="7095960" y="5068800"/>
            <a:ext cx="20480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0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первый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: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Установить и поддерживать отношения равенства и взаимного уваж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0" name="Picture 4" descr="MCj04360490000[1]"/>
          <p:cNvPicPr/>
          <p:nvPr/>
        </p:nvPicPr>
        <p:blipFill>
          <a:blip r:embed="rId1"/>
          <a:stretch/>
        </p:blipFill>
        <p:spPr>
          <a:xfrm>
            <a:off x="1066680" y="3505320"/>
            <a:ext cx="221004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Cj04360450000[1]"/>
          <p:cNvPicPr/>
          <p:nvPr/>
        </p:nvPicPr>
        <p:blipFill>
          <a:blip r:embed="rId2"/>
          <a:stretch/>
        </p:blipFill>
        <p:spPr>
          <a:xfrm>
            <a:off x="6781680" y="3429000"/>
            <a:ext cx="21574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424466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второ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нять причину поведения ребенк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5" name="Picture 5" descr="MCj04357430000[1]"/>
          <p:cNvPicPr/>
          <p:nvPr/>
        </p:nvPicPr>
        <p:blipFill>
          <a:blip r:embed="rId1"/>
          <a:stretch/>
        </p:blipFill>
        <p:spPr>
          <a:xfrm>
            <a:off x="7467480" y="3276720"/>
            <a:ext cx="12747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boys11"/>
          <p:cNvPicPr/>
          <p:nvPr/>
        </p:nvPicPr>
        <p:blipFill>
          <a:blip r:embed="rId2"/>
          <a:stretch/>
        </p:blipFill>
        <p:spPr>
          <a:xfrm>
            <a:off x="1523880" y="3505320"/>
            <a:ext cx="146700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Cj04338180000[1]"/>
          <p:cNvPicPr/>
          <p:nvPr/>
        </p:nvPicPr>
        <p:blipFill>
          <a:blip r:embed="rId3"/>
          <a:stretch/>
        </p:blipFill>
        <p:spPr>
          <a:xfrm>
            <a:off x="3962520" y="38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28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трети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чь ребенку определить и осознать причину нежелательного поведения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СУЖДАЮЩИ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разом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0" name="Picture 4" descr="MCj03973620000[1]"/>
          <p:cNvPicPr/>
          <p:nvPr/>
        </p:nvPicPr>
        <p:blipFill>
          <a:blip r:embed="rId1"/>
          <a:stretch/>
        </p:blipFill>
        <p:spPr>
          <a:xfrm>
            <a:off x="6781680" y="4572000"/>
            <a:ext cx="2362320" cy="17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Cj04303700000[1]"/>
          <p:cNvPicPr/>
          <p:nvPr/>
        </p:nvPicPr>
        <p:blipFill>
          <a:blip r:embed="rId2"/>
          <a:stretch/>
        </p:blipFill>
        <p:spPr>
          <a:xfrm>
            <a:off x="914400" y="4267080"/>
            <a:ext cx="2057400" cy="1978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MCj04338160000[1]"/>
          <p:cNvPicPr/>
          <p:nvPr/>
        </p:nvPicPr>
        <p:blipFill>
          <a:blip r:embed="rId3"/>
          <a:stretch/>
        </p:blipFill>
        <p:spPr>
          <a:xfrm>
            <a:off x="39625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четверты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едупреждать возникновение проблемных ситуаций, установив доверительные отношения с ребенко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5" name="Picture 4" descr="MCj04338230000[1]"/>
          <p:cNvPicPr/>
          <p:nvPr/>
        </p:nvPicPr>
        <p:blipFill>
          <a:blip r:embed="rId1"/>
          <a:stretch/>
        </p:blipFill>
        <p:spPr>
          <a:xfrm>
            <a:off x="41148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Cj04344530000[1]"/>
          <p:cNvPicPr/>
          <p:nvPr/>
        </p:nvPicPr>
        <p:blipFill>
          <a:blip r:embed="rId2"/>
          <a:stretch/>
        </p:blipFill>
        <p:spPr>
          <a:xfrm>
            <a:off x="914400" y="4191120"/>
            <a:ext cx="2590920" cy="1666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Cj04344550000[1]"/>
          <p:cNvPicPr/>
          <p:nvPr/>
        </p:nvPicPr>
        <p:blipFill>
          <a:blip r:embed="rId3"/>
          <a:stretch/>
        </p:blipFill>
        <p:spPr>
          <a:xfrm>
            <a:off x="6553080" y="4114800"/>
            <a:ext cx="2133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0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Шаг пятый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еспечить ребенку возможность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могать (понять смысл чувства полезност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отрудничать (объяснять, насколько больше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н сможет сделать, работая вместе с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ями и братьями, сестрам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лать то, что ему по силам (чтобы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делать ситуацию более приятной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учить правильно решать пробле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(анализировать поступки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00" name="Picture 4" descr="MCj04244700000[1]"/>
          <p:cNvPicPr/>
          <p:nvPr/>
        </p:nvPicPr>
        <p:blipFill>
          <a:blip r:embed="rId1"/>
          <a:stretch/>
        </p:blipFill>
        <p:spPr>
          <a:xfrm>
            <a:off x="762120" y="27432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Cj04244700000[1]"/>
          <p:cNvPicPr/>
          <p:nvPr/>
        </p:nvPicPr>
        <p:blipFill>
          <a:blip r:embed="rId2"/>
          <a:stretch/>
        </p:blipFill>
        <p:spPr>
          <a:xfrm>
            <a:off x="1219320" y="335268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MCj04244700000[1]"/>
          <p:cNvPicPr/>
          <p:nvPr/>
        </p:nvPicPr>
        <p:blipFill>
          <a:blip r:embed="rId3"/>
          <a:stretch/>
        </p:blipFill>
        <p:spPr>
          <a:xfrm>
            <a:off x="914400" y="4572000"/>
            <a:ext cx="533520" cy="500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MCj04244700000[1]"/>
          <p:cNvPicPr/>
          <p:nvPr/>
        </p:nvPicPr>
        <p:blipFill>
          <a:blip r:embed="rId4"/>
          <a:stretch/>
        </p:blipFill>
        <p:spPr>
          <a:xfrm>
            <a:off x="2362320" y="54864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MCj04283210000[1]"/>
          <p:cNvPicPr/>
          <p:nvPr/>
        </p:nvPicPr>
        <p:blipFill>
          <a:blip r:embed="rId5"/>
          <a:stretch/>
        </p:blipFill>
        <p:spPr>
          <a:xfrm>
            <a:off x="7315200" y="914400"/>
            <a:ext cx="1600200" cy="130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3975980000[1]"/>
          <p:cNvPicPr/>
          <p:nvPr/>
        </p:nvPicPr>
        <p:blipFill>
          <a:blip r:embed="rId6"/>
          <a:stretch/>
        </p:blipFill>
        <p:spPr>
          <a:xfrm>
            <a:off x="762120" y="762120"/>
            <a:ext cx="1447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Comic Sans MS"/>
              </a:rPr>
              <a:t>Что же делать, для предупреждения нарушений в поведении ребенка?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207" name="Picture 8" descr="elf121"/>
          <p:cNvPicPr/>
          <p:nvPr/>
        </p:nvPicPr>
        <p:blipFill>
          <a:blip r:embed="rId1"/>
          <a:stretch/>
        </p:blipFill>
        <p:spPr>
          <a:xfrm>
            <a:off x="533520" y="228600"/>
            <a:ext cx="2133360" cy="196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elf123"/>
          <p:cNvPicPr/>
          <p:nvPr/>
        </p:nvPicPr>
        <p:blipFill>
          <a:blip r:embed="rId2"/>
          <a:stretch/>
        </p:blipFill>
        <p:spPr>
          <a:xfrm>
            <a:off x="6912000" y="4038480"/>
            <a:ext cx="1536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br>
              <a:rPr sz="3200"/>
            </a:b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се дети жаждут внимания!»</a:t>
            </a: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 за хорошие дела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бъятия, улыбки, интерес и похвала являются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ознаграждением и, следовательно, сильным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будительным мотивом вести себя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"хорошо"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, которое следует за нежелательным поведением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приятные слова или нахмуренные брови и резко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брошенное: "Прекрати!" с точки зрения ребенка – это тоже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проявление вним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1" name="Picture 4" descr="homa84"/>
          <p:cNvPicPr/>
          <p:nvPr/>
        </p:nvPicPr>
        <p:blipFill>
          <a:blip r:embed="rId1"/>
          <a:stretch/>
        </p:blipFill>
        <p:spPr>
          <a:xfrm>
            <a:off x="914400" y="750960"/>
            <a:ext cx="1828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3962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овышенное внимание (сверозабоченность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чистить зубы или у тебя будут дырки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, чтобы ты смотрел телевизор весь вечер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ерестань драться сию же минуту! 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ходить в школу или ты не сможешь получить хорошей работы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Ешь, что я приготовила, тебе эта еда полезна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2880" y="761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еределано к модели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уважения: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беспокоюсь, что придеться идти к зубному врач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осле 9 часов вечера комната мне нужна самому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рисковать твоим здоровьем, позволяя тебе драться»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Когда ты так много пропускаешь в школе, учителя звонят мне. Я не знаю, что им говорить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всем готовить разную ед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0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Изменить нежелательное поведение ребёнка - задача очень непростая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амного проще воврем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            предупредить наруш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Для этого необходимо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оанализировать и понять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что для Вас являетс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нарушением поведения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4" name="Picture 6" descr="lines16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ines16"/>
          <p:cNvPicPr/>
          <p:nvPr/>
        </p:nvPicPr>
        <p:blipFill>
          <a:blip r:embed="rId2"/>
          <a:stretch/>
        </p:blipFill>
        <p:spPr>
          <a:xfrm>
            <a:off x="7621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eople072"/>
          <p:cNvPicPr/>
          <p:nvPr/>
        </p:nvPicPr>
        <p:blipFill>
          <a:blip r:embed="rId3"/>
          <a:stretch/>
        </p:blipFill>
        <p:spPr>
          <a:xfrm>
            <a:off x="1066680" y="4838760"/>
            <a:ext cx="2133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Следить за своими словами и действиями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Чем меньше мы знаем, что делать, тем больше мы знаем, что должны делать другие!»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икто не хочет, чтобы им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понукал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бходимо действовать и говорить другим,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М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собираемся делать, а не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должн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делать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ОН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7" name="Picture 5" descr="lines8"/>
          <p:cNvPicPr/>
          <p:nvPr/>
        </p:nvPicPr>
        <p:blipFill>
          <a:blip r:embed="rId1"/>
          <a:stretch/>
        </p:blipFill>
        <p:spPr>
          <a:xfrm>
            <a:off x="1600200" y="2819520"/>
            <a:ext cx="69343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Несколько лишних, но отнюдь не ненужных слов!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3124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     </a:t>
            </a: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Указ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ерестан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торопис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("Одевайся!"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исти зубы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корми собаку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Убирайся отсюда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33920" y="114264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Предлож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мог бы ты играть не так шумно или пойти играть в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своей комнате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тел бы ты одеваться здесь или в машине (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на площадке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)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то ты предпочитаешь: чистить зубы или не есть сладкого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чешь покормить собаку или вынести мусор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хочешь ли ты покинуть комнату или ты предпочитаешь, чтобы я тебя вытащил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0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«НЕТ», не «НЕ-Е-ЕТ!!!»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Говорить «нет» и отстаивать свое мнение необходимо!»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НЕТ» не должно быть наказанием, оно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олжно быть осознаваемым для ребенка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чему «НЕТ», объяснит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Чем старше ребенок, тем труднее говорить «НЕТ»,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а уж объяснить почему, вообще кошмар! (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ы же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уже взрослый, сам не понимаешь, почему?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дходите к ответам на вопросы с детской стороны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Они,  может быть, и правда не понимают</a:t>
            </a: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!!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3" name="Picture 5" descr="homa18"/>
          <p:cNvPicPr/>
          <p:nvPr/>
        </p:nvPicPr>
        <p:blipFill>
          <a:blip r:embed="rId1"/>
          <a:stretch/>
        </p:blipFill>
        <p:spPr>
          <a:xfrm>
            <a:off x="380880" y="76212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0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3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3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Попробуйте заменить слово «НЕТ»</a:t>
            </a:r>
            <a:br>
              <a:rPr sz="36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 сейчас, потому, что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Я подумаю, и тогда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Как ты думаешь, разумно ли это…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6" name="Picture 4" descr="ribka22"/>
          <p:cNvPicPr/>
          <p:nvPr/>
        </p:nvPicPr>
        <p:blipFill>
          <a:blip r:embed="rId1"/>
          <a:stretch/>
        </p:blipFill>
        <p:spPr>
          <a:xfrm>
            <a:off x="8001000" y="1905120"/>
            <a:ext cx="85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0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Решать только одну проблему за раз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Не старайтесь поймать ребенка на проступках и складывать все в один тазик!!!»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Может быть, проблема вытекает одна из другой, а может, они не связаны и ребенку от непонимания только хуж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пробуйте сосредоточиться на чем-то одном!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9" name="Picture 7" descr="мальчик с вопосом"/>
          <p:cNvPicPr/>
          <p:nvPr/>
        </p:nvPicPr>
        <p:blipFill>
          <a:blip r:embed="rId1"/>
          <a:stretch/>
        </p:blipFill>
        <p:spPr>
          <a:xfrm>
            <a:off x="3733920" y="1828800"/>
            <a:ext cx="22096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0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3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гайте ему анализировать ситуацию, чтобы не совершать подобные проступки!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«2» по поведению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br>
              <a:rPr sz="2400"/>
            </a:b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506240"/>
            <a:ext cx="350532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над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 чем причина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ты поступил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надо было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поступил взрослый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а как он, на твой взгляд, должен был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600" y="13716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делаем 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я так и знала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аешься дурью, уроки не учи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ещи не убирае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олько хулиганить можешь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облема не выделе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растерян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За что ему оправдываться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33" name="Picture 6" descr="tani07"/>
          <p:cNvPicPr/>
          <p:nvPr/>
        </p:nvPicPr>
        <p:blipFill>
          <a:blip r:embed="rId1"/>
          <a:stretch/>
        </p:blipFill>
        <p:spPr>
          <a:xfrm>
            <a:off x="304920" y="11430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eva71"/>
          <p:cNvPicPr/>
          <p:nvPr/>
        </p:nvPicPr>
        <p:blipFill>
          <a:blip r:embed="rId2"/>
          <a:stretch/>
        </p:blipFill>
        <p:spPr>
          <a:xfrm>
            <a:off x="8077320" y="320040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6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rakon007"/>
          <p:cNvPicPr/>
          <p:nvPr/>
        </p:nvPicPr>
        <p:blipFill>
          <a:blip r:embed="rId1"/>
          <a:stretch/>
        </p:blipFill>
        <p:spPr>
          <a:xfrm>
            <a:off x="914400" y="4724280"/>
            <a:ext cx="12906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3d28"/>
          <p:cNvPicPr/>
          <p:nvPr/>
        </p:nvPicPr>
        <p:blipFill>
          <a:blip r:embed="rId2"/>
          <a:stretch/>
        </p:blipFill>
        <p:spPr>
          <a:xfrm>
            <a:off x="7862760" y="3276720"/>
            <a:ext cx="128124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d32"/>
          <p:cNvPicPr/>
          <p:nvPr/>
        </p:nvPicPr>
        <p:blipFill>
          <a:blip r:embed="rId3"/>
          <a:stretch/>
        </p:blipFill>
        <p:spPr>
          <a:xfrm>
            <a:off x="914400" y="685800"/>
            <a:ext cx="1371600" cy="1139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Три основных закона, которым подчинено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оведение ребенка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1-й закон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выбирают определенное поведение в определенных обстоятельствах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2-й закон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– любое поведение ребенка подчинено цели – чувствовать себя принадлежащим к жизни семьи, «чувствовать свою важность и значимость»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   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3-й закон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ая дисциплину, ребенок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сознает, что ведет себя не правильно, но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жет не осознавать, что за этим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ениям    стоит определенная цель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или     причи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3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93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режде всего нам необходимо дать точное определение поведению, которое, на Ваш взгляд, является нежелательным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Это может оказаться не так легко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Бывают очевидные проблемы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дерется, грубит, убегает….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добные формы поведения проявляются ярко и их  легко отнести к категории нежелательных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Однако бывают и менее явные проблемы: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может плакать, отказываться выполнять инструкции или просто не реагировать на Вас… Давайте посмотрим, как мы понимаем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нежелательное поведение»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Picture 7" descr="ar3"/>
          <p:cNvPicPr/>
          <p:nvPr/>
        </p:nvPicPr>
        <p:blipFill>
          <a:blip r:embed="rId1"/>
          <a:stretch/>
        </p:blipFill>
        <p:spPr>
          <a:xfrm rot="2935800">
            <a:off x="6276600" y="187632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r3"/>
          <p:cNvPicPr/>
          <p:nvPr/>
        </p:nvPicPr>
        <p:blipFill>
          <a:blip r:embed="rId2"/>
          <a:stretch/>
        </p:blipFill>
        <p:spPr>
          <a:xfrm rot="2935800">
            <a:off x="7648200" y="431460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r3"/>
          <p:cNvPicPr/>
          <p:nvPr/>
        </p:nvPicPr>
        <p:blipFill>
          <a:blip r:embed="rId3"/>
          <a:stretch/>
        </p:blipFill>
        <p:spPr>
          <a:xfrm>
            <a:off x="7696080" y="6172200"/>
            <a:ext cx="62892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r3"/>
          <p:cNvPicPr/>
          <p:nvPr/>
        </p:nvPicPr>
        <p:blipFill>
          <a:blip r:embed="rId4"/>
          <a:stretch/>
        </p:blipFill>
        <p:spPr>
          <a:xfrm>
            <a:off x="8515440" y="6172200"/>
            <a:ext cx="628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4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обходимо выделить задачи для решения проблемы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39" name="Organization Chart 3"/>
          <p:cNvGrpSpPr/>
          <p:nvPr/>
        </p:nvGrpSpPr>
        <p:grpSpPr>
          <a:xfrm>
            <a:off x="380880" y="1542960"/>
            <a:ext cx="8533080" cy="5225400"/>
            <a:chOff x="380880" y="1542960"/>
            <a:chExt cx="8533080" cy="5225400"/>
          </a:xfrm>
        </p:grpSpPr>
        <p:cxnSp>
          <p:nvCxnSpPr>
            <p:cNvPr id="140" name="_s1028"/>
            <p:cNvCxnSpPr>
              <a:stCxn id="141" idx="1"/>
              <a:endCxn id="142" idx="2"/>
            </p:cNvCxnSpPr>
            <p:nvPr/>
          </p:nvCxnSpPr>
          <p:spPr>
            <a:xfrm rot="10800000">
              <a:off x="2940120" y="2288520"/>
              <a:ext cx="853920" cy="41061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3" name="_s1029"/>
            <p:cNvCxnSpPr>
              <a:stCxn id="144" idx="1"/>
              <a:endCxn id="142" idx="2"/>
            </p:cNvCxnSpPr>
            <p:nvPr/>
          </p:nvCxnSpPr>
          <p:spPr>
            <a:xfrm rot="10800000">
              <a:off x="2940120" y="2288520"/>
              <a:ext cx="853920" cy="298692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5" name="_s1030"/>
            <p:cNvCxnSpPr>
              <a:stCxn id="146" idx="1"/>
              <a:endCxn id="142" idx="2"/>
            </p:cNvCxnSpPr>
            <p:nvPr/>
          </p:nvCxnSpPr>
          <p:spPr>
            <a:xfrm rot="10800000">
              <a:off x="2940120" y="2288520"/>
              <a:ext cx="853920" cy="18669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7" name="_s1031"/>
            <p:cNvCxnSpPr>
              <a:stCxn id="148" idx="1"/>
              <a:endCxn id="142" idx="2"/>
            </p:cNvCxnSpPr>
            <p:nvPr/>
          </p:nvCxnSpPr>
          <p:spPr>
            <a:xfrm rot="10800000">
              <a:off x="2940120" y="2288520"/>
              <a:ext cx="853920" cy="74700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sp>
          <p:nvSpPr>
            <p:cNvPr id="142" name="_s1032"/>
            <p:cNvSpPr/>
            <p:nvPr/>
          </p:nvSpPr>
          <p:spPr>
            <a:xfrm>
              <a:off x="380880" y="15429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Comic Sans MS"/>
                </a:rPr>
                <a:t>Основные задачи</a:t>
              </a:r>
              <a:endParaRPr b="0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8" name="_s1033"/>
            <p:cNvSpPr/>
            <p:nvPr/>
          </p:nvSpPr>
          <p:spPr>
            <a:xfrm>
              <a:off x="3794040" y="26625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Объективно описать поведения ребенка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6" name="_s1034"/>
            <p:cNvSpPr/>
            <p:nvPr/>
          </p:nvSpPr>
          <p:spPr>
            <a:xfrm>
              <a:off x="3794040" y="37825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Понять мотив «плохого» поведения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4" name="_s1035"/>
            <p:cNvSpPr/>
            <p:nvPr/>
          </p:nvSpPr>
          <p:spPr>
            <a:xfrm>
              <a:off x="3794040" y="49021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Выбрать технику(</a:t>
              </a:r>
              <a:r>
                <a:rPr b="1" lang="en-US" sz="1600" spc="-1" strike="noStrike">
                  <a:solidFill>
                    <a:srgbClr val="000080"/>
                  </a:solidFill>
                  <a:latin typeface="Comic Sans MS"/>
                </a:rPr>
                <a:t>для прекращения выходки)</a:t>
              </a:r>
              <a:endParaRPr b="0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1" name="_s1036"/>
            <p:cNvSpPr/>
            <p:nvPr/>
          </p:nvSpPr>
          <p:spPr>
            <a:xfrm>
              <a:off x="3794040" y="602208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Разработать стратегию и тактику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pic>
          <p:nvPicPr>
            <p:cNvPr id="149" name="Picture 19" descr=""/>
            <p:cNvPicPr/>
            <p:nvPr/>
          </p:nvPicPr>
          <p:blipFill>
            <a:blip r:embed="rId1"/>
            <a:stretch/>
          </p:blipFill>
          <p:spPr>
            <a:xfrm>
              <a:off x="1749960" y="2589840"/>
              <a:ext cx="7578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0" descr=""/>
            <p:cNvPicPr/>
            <p:nvPr/>
          </p:nvPicPr>
          <p:blipFill>
            <a:blip r:embed="rId2"/>
            <a:stretch/>
          </p:blipFill>
          <p:spPr>
            <a:xfrm>
              <a:off x="1749960" y="3504960"/>
              <a:ext cx="7750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1" descr=""/>
            <p:cNvPicPr/>
            <p:nvPr/>
          </p:nvPicPr>
          <p:blipFill>
            <a:blip r:embed="rId3"/>
            <a:stretch/>
          </p:blipFill>
          <p:spPr>
            <a:xfrm>
              <a:off x="1749960" y="4419720"/>
              <a:ext cx="775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2" descr=""/>
            <p:cNvPicPr/>
            <p:nvPr/>
          </p:nvPicPr>
          <p:blipFill>
            <a:blip r:embed="rId4"/>
            <a:stretch/>
          </p:blipFill>
          <p:spPr>
            <a:xfrm>
              <a:off x="1749960" y="5485320"/>
              <a:ext cx="781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80"/>
                </a:solidFill>
                <a:latin typeface="Comic Sans MS"/>
              </a:rPr>
              <a:t>Причины нарушения поведения</a:t>
            </a:r>
            <a:endParaRPr b="0" lang="en-US" sz="42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54" name="Diagram 3"/>
          <p:cNvGrpSpPr/>
          <p:nvPr/>
        </p:nvGrpSpPr>
        <p:grpSpPr>
          <a:xfrm>
            <a:off x="838080" y="1752480"/>
            <a:ext cx="7872480" cy="4191120"/>
            <a:chOff x="838080" y="1752480"/>
            <a:chExt cx="7872480" cy="4191120"/>
          </a:xfrm>
        </p:grpSpPr>
        <p:sp>
          <p:nvSpPr>
            <p:cNvPr id="155" name="_s2052"/>
            <p:cNvSpPr/>
            <p:nvPr/>
          </p:nvSpPr>
          <p:spPr>
            <a:xfrm>
              <a:off x="3957480" y="2381400"/>
              <a:ext cx="1686240" cy="168588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>
              <a:off x="3048120" y="1752480"/>
              <a:ext cx="3962160" cy="493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Привлечение внимания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>
              <a:off x="4599000" y="3022560"/>
              <a:ext cx="1685880" cy="1685880"/>
            </a:xfrm>
            <a:prstGeom prst="ellipse">
              <a:avLst/>
            </a:prstGeom>
            <a:solidFill>
              <a:srgbClr val="9933ff">
                <a:alpha val="50000"/>
              </a:srgbClr>
            </a:solidFill>
            <a:ln w="46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>
              <a:off x="6477120" y="3657600"/>
              <a:ext cx="22334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Вла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9" name="_s2056"/>
            <p:cNvSpPr/>
            <p:nvPr/>
          </p:nvSpPr>
          <p:spPr>
            <a:xfrm>
              <a:off x="3957480" y="3664080"/>
              <a:ext cx="1686240" cy="168588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0" name="_s2057"/>
            <p:cNvSpPr/>
            <p:nvPr/>
          </p:nvSpPr>
          <p:spPr>
            <a:xfrm>
              <a:off x="3124080" y="5562720"/>
              <a:ext cx="3810240" cy="380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Избегание неудач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1" name="_s2058"/>
            <p:cNvSpPr/>
            <p:nvPr/>
          </p:nvSpPr>
          <p:spPr>
            <a:xfrm>
              <a:off x="3316320" y="3022560"/>
              <a:ext cx="1685880" cy="1685880"/>
            </a:xfrm>
            <a:prstGeom prst="ellipse">
              <a:avLst/>
            </a:prstGeom>
            <a:solidFill>
              <a:srgbClr val="7a7c93">
                <a:alpha val="50000"/>
              </a:srgbClr>
            </a:solidFill>
            <a:ln w="4680">
              <a:solidFill>
                <a:srgbClr val="7a7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2" name="_s2059"/>
            <p:cNvSpPr/>
            <p:nvPr/>
          </p:nvSpPr>
          <p:spPr>
            <a:xfrm>
              <a:off x="838080" y="3657600"/>
              <a:ext cx="2309760" cy="534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Ме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привлечения внимания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и и учителя больше внимания уделяют детям, которые ведут себя плохо, а не хорошо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не научены просить внимания в приемлемой форме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часто испытывают дефицит личного внимания к себе, чувствуют себя «пустым местом»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Реакция взрослого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раздраж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возмущ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словесные замеч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угроз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Picture 4" descr="an21"/>
          <p:cNvPicPr/>
          <p:nvPr/>
        </p:nvPicPr>
        <p:blipFill>
          <a:blip r:embed="rId1"/>
          <a:stretch/>
        </p:blipFill>
        <p:spPr>
          <a:xfrm>
            <a:off x="1523880" y="495288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Природа данного поведения</a:t>
            </a:r>
            <a:r>
              <a:rPr b="0" lang="ru-RU" sz="2800" spc="-1" strike="noStrike" u="sng">
                <a:solidFill>
                  <a:srgbClr val="61636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да на «сильную личность» учит утверждению своей силы, а не конструктивному подчинению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сутствие в нашем обществе установки «Кто имеет власть, тот имеет все!»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Гнев, негодование, страх ( не справиться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медленно прекратить выходку с помощью физического воздействия (встряхнуть, ударить…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8" name="Picture 5" descr="an99"/>
          <p:cNvPicPr/>
          <p:nvPr/>
        </p:nvPicPr>
        <p:blipFill>
          <a:blip r:embed="rId1"/>
          <a:stretch/>
        </p:blipFill>
        <p:spPr>
          <a:xfrm>
            <a:off x="838080" y="304920"/>
            <a:ext cx="19814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избегание неудач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Отношение у ребенка к заданиям и просьбам изначально предвзятое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Необоснованные ожидания родителей и учителей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Вера ребенка, что ему подходит быть  только самым-самым!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Упор на соревнования, сравнения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Чувство беспомощности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Хочется оправдаться и объяснить поведение ребенка (иногда с помощью специалиста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5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5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6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tter</dc:creator>
  <dc:description/>
  <dc:language>en-US</dc:language>
  <cp:lastModifiedBy>Otter</cp:lastModifiedBy>
  <dcterms:modified xsi:type="dcterms:W3CDTF">2022-02-02T06:38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